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92EF-4F27-4613-89D3-DADCA32BC0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473-4C76-4E5B-8E5E-551DF09061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00C-6CE5-4843-A5EE-FB69A589D8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EF5-853C-45B4-8F50-38D111D027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75E-73FB-43DA-A7F8-AE25DFBB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592-9687-4426-B67E-D54880EF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F78-ECC2-4FF2-8954-00F3C96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825-9F81-42FF-A925-CA90D458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717-3BE7-4C8C-B8D0-949569A8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621-2594-4B53-B574-6084250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131-703F-4FEC-8EE1-C5D51BE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211-CA87-4EA1-8A7D-176B126F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869-A310-470F-B7D3-47258D6C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A32-EDD0-4EBB-9D73-1AB3CAB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319-0CBD-4438-B7F7-71DECF91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C8F-2627-4D7B-84FC-C597100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6C9A-DC62-44EA-B60D-220861A6E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322280" y="-23760"/>
            <a:ext cx="6353280" cy="68324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>
            <a:off x="1332000" y="573264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ursive standard"/>
              </a:rPr>
              <a:t>La musique au Moyen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981000"/>
          <a:ext cx="8209080" cy="5688000"/>
        </p:xfrm>
        <a:graphic>
          <a:graphicData uri="http://schemas.openxmlformats.org/drawingml/2006/table">
            <a:tbl>
              <a:tblPr/>
              <a:tblGrid>
                <a:gridCol w="2344680"/>
                <a:gridCol w="1906920"/>
                <a:gridCol w="2003400"/>
                <a:gridCol w="1954080"/>
              </a:tblGrid>
              <a:tr h="82548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On écoute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Chant n°1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Chant n°2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Chant n°3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Qui chan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Y a –t-il plusieurs voix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Comment est le rythme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Les voix chantent-elles toutes la même mélodie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Langue utilis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La voix est-elle accompagnée d’instruments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Quel est le style musical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ZoneTexte 4"/>
          <p:cNvSpPr/>
          <p:nvPr/>
        </p:nvSpPr>
        <p:spPr>
          <a:xfrm>
            <a:off x="241128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coutons des ex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onodie.mp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olyph.mp3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trouv.mp3" descr=""/>
          <p:cNvPicPr/>
          <p:nvPr/>
        </p:nvPicPr>
        <p:blipFill>
          <a:blip r:embed="rId3"/>
          <a:stretch/>
        </p:blipFill>
        <p:spPr>
          <a:xfrm>
            <a:off x="752472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4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36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323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55640" y="2060640"/>
          <a:ext cx="7104240" cy="3708360"/>
        </p:xfrm>
        <a:graphic>
          <a:graphicData uri="http://schemas.openxmlformats.org/drawingml/2006/table">
            <a:tbl>
              <a:tblPr/>
              <a:tblGrid>
                <a:gridCol w="2530440"/>
                <a:gridCol w="2103480"/>
                <a:gridCol w="2470320"/>
              </a:tblGrid>
              <a:tr h="6746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ants grégor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ique prof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8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 quelles occasions les chantait-on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Où pouvions-nous les écouter 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ZoneTexte 2"/>
          <p:cNvSpPr/>
          <p:nvPr/>
        </p:nvSpPr>
        <p:spPr>
          <a:xfrm>
            <a:off x="97164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De la musique… Pour faire quoi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665600" cy="388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724360" y="2492280"/>
            <a:ext cx="2722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1"/>
          <p:cNvSpPr/>
          <p:nvPr/>
        </p:nvSpPr>
        <p:spPr>
          <a:xfrm>
            <a:off x="468360" y="260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De la musique… Avec quels instrument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611280" y="134136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éécoutons l’extrait et faisons attention aux instruments utilis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rouv.mp3" descr=""/>
          <p:cNvPicPr/>
          <p:nvPr/>
        </p:nvPicPr>
        <p:blipFill>
          <a:blip r:embed="rId1"/>
          <a:stretch/>
        </p:blipFill>
        <p:spPr>
          <a:xfrm>
            <a:off x="7812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323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11280" y="1268280"/>
            <a:ext cx="27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cromo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079800" cy="419076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  <p:sp>
        <p:nvSpPr>
          <p:cNvPr id="64" name="Rectangle 4"/>
          <p:cNvSpPr/>
          <p:nvPr/>
        </p:nvSpPr>
        <p:spPr>
          <a:xfrm>
            <a:off x="5724360" y="1268280"/>
            <a:ext cx="23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chal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2994120" cy="424656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  <p:pic>
        <p:nvPicPr>
          <p:cNvPr id="66" name="cromorn.mp3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chalem2.mp3" descr=""/>
          <p:cNvPicPr/>
          <p:nvPr/>
        </p:nvPicPr>
        <p:blipFill>
          <a:blip r:embed="rId4"/>
          <a:stretch/>
        </p:blipFill>
        <p:spPr>
          <a:xfrm>
            <a:off x="7667640" y="126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7"/>
          <p:cNvSpPr/>
          <p:nvPr/>
        </p:nvSpPr>
        <p:spPr>
          <a:xfrm>
            <a:off x="1619280" y="260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Des instruments dispa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706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857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587600" cy="244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171520" cy="210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076720" y="1052640"/>
            <a:ext cx="2171880" cy="21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00360" y="105264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324000" y="105264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6"/>
          <a:stretch/>
        </p:blipFill>
        <p:spPr>
          <a:xfrm>
            <a:off x="2987640" y="3933720"/>
            <a:ext cx="2362320" cy="200340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  <p:sp>
        <p:nvSpPr>
          <p:cNvPr id="75" name="ZoneTexte 8"/>
          <p:cNvSpPr/>
          <p:nvPr/>
        </p:nvSpPr>
        <p:spPr>
          <a:xfrm>
            <a:off x="468360" y="260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Des  instruments qu’on utilise tou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harp2.mp3" descr=""/>
          <p:cNvPicPr/>
          <p:nvPr/>
        </p:nvPicPr>
        <p:blipFill>
          <a:blip r:embed="rId7"/>
          <a:stretch/>
        </p:blipFill>
        <p:spPr>
          <a:xfrm>
            <a:off x="468360" y="27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bretagn.mp3" descr=""/>
          <p:cNvPicPr/>
          <p:nvPr/>
        </p:nvPicPr>
        <p:blipFill>
          <a:blip r:embed="rId8"/>
          <a:stretch/>
        </p:blipFill>
        <p:spPr>
          <a:xfrm>
            <a:off x="363528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luth3.mp3" descr=""/>
          <p:cNvPicPr/>
          <p:nvPr/>
        </p:nvPicPr>
        <p:blipFill>
          <a:blip r:embed="rId9"/>
          <a:stretch/>
        </p:blipFill>
        <p:spPr>
          <a:xfrm>
            <a:off x="1332000" y="544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flutmp3.mp3" descr=""/>
          <p:cNvPicPr/>
          <p:nvPr/>
        </p:nvPicPr>
        <p:blipFill>
          <a:blip r:embed="rId10"/>
          <a:stretch/>
        </p:blipFill>
        <p:spPr>
          <a:xfrm>
            <a:off x="601200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travers.mp3" descr=""/>
          <p:cNvPicPr/>
          <p:nvPr/>
        </p:nvPicPr>
        <p:blipFill>
          <a:blip r:embed="rId11"/>
          <a:stretch/>
        </p:blipFill>
        <p:spPr>
          <a:xfrm>
            <a:off x="514836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vielmp3.mp3" descr=""/>
          <p:cNvPicPr/>
          <p:nvPr/>
        </p:nvPicPr>
        <p:blipFill>
          <a:blip r:embed="rId12"/>
          <a:stretch/>
        </p:blipFill>
        <p:spPr>
          <a:xfrm>
            <a:off x="8101080" y="170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13"/>
          <a:stretch/>
        </p:blipFill>
        <p:spPr>
          <a:xfrm>
            <a:off x="6012000" y="3789360"/>
            <a:ext cx="2190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48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330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492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088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9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42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oneTexte 1"/>
          <p:cNvSpPr/>
          <p:nvPr/>
        </p:nvSpPr>
        <p:spPr>
          <a:xfrm>
            <a:off x="934920" y="189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 quelle famille appartiennent-il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1052640"/>
          <a:ext cx="8569080" cy="374940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6300720" y="4941720"/>
            <a:ext cx="712800" cy="109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974880" cy="94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5013360"/>
            <a:ext cx="974880" cy="94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4"/>
          <a:stretch/>
        </p:blipFill>
        <p:spPr>
          <a:xfrm>
            <a:off x="3059280" y="5013360"/>
            <a:ext cx="931680" cy="98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7093080" y="5013360"/>
            <a:ext cx="96516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6"/>
          <a:stretch/>
        </p:blipFill>
        <p:spPr>
          <a:xfrm>
            <a:off x="179280" y="5013360"/>
            <a:ext cx="792360" cy="93672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  <p:pic>
        <p:nvPicPr>
          <p:cNvPr id="91" name="Picture 7" descr=""/>
          <p:cNvPicPr/>
          <p:nvPr/>
        </p:nvPicPr>
        <p:blipFill>
          <a:blip r:embed="rId7"/>
          <a:stretch/>
        </p:blipFill>
        <p:spPr>
          <a:xfrm>
            <a:off x="4140360" y="5013360"/>
            <a:ext cx="982440" cy="9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8"/>
          <a:stretch/>
        </p:blipFill>
        <p:spPr>
          <a:xfrm>
            <a:off x="2124000" y="5084640"/>
            <a:ext cx="814320" cy="78264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  <p:pic>
        <p:nvPicPr>
          <p:cNvPr id="93" name="Picture 5" descr=""/>
          <p:cNvPicPr/>
          <p:nvPr/>
        </p:nvPicPr>
        <p:blipFill>
          <a:blip r:embed="rId9"/>
          <a:stretch/>
        </p:blipFill>
        <p:spPr>
          <a:xfrm>
            <a:off x="8207280" y="5084640"/>
            <a:ext cx="792360" cy="792360"/>
          </a:xfrm>
          <a:prstGeom prst="rect">
            <a:avLst/>
          </a:prstGeom>
          <a:ln w="0">
            <a:noFill/>
          </a:ln>
          <a:effectLst>
            <a:outerShdw dist="63593" dir="1593903" blurRad="0" rotWithShape="0">
              <a:srgbClr val="eeece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6"/>
          <p:cNvSpPr/>
          <p:nvPr/>
        </p:nvSpPr>
        <p:spPr>
          <a:xfrm>
            <a:off x="179280" y="189000"/>
            <a:ext cx="8713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MUSIQUE AU MOYEN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Moyen âge, la musique se présente sous deux aspects :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eligieus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fa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musique religieus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ur d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II e sièc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se développe dans les églises 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les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oin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tent en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atin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’inspirent de passages de la Bible. Il n’y a pas d’instruments qui accompagnent ces ch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s les chanteurs chantent la même mélodie : on parle de chant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onodiqu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partir d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I e sièc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les chants se complexifient : plusieurs mélodies apparaissent dans un même chant : on parle de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lyphoni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se souvenir de la mélodie, les moines copistes copient les chants en utilisant des neumes (sorte de partition de mus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musique profan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même temps se développe un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sique non religieuse 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a musique profane. Les chants sont alors accompagnés d’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trume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ont chantés en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cien frança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ar des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oubadour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l s’agit de poésie ou d’histoires destinés à divertir, amuser et émouvoir les seigneurs et le peu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6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09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3:15:07Z</dcterms:created>
  <dc:creator>Laurent</dc:creator>
  <dc:description/>
  <dc:language>en-US</dc:language>
  <cp:lastModifiedBy>Laurent</cp:lastModifiedBy>
  <dcterms:modified xsi:type="dcterms:W3CDTF">2012-03-24T14:42:54Z</dcterms:modified>
  <cp:revision>10</cp:revision>
  <dc:subject/>
  <dc:title>Diapositive 1</dc:title>
</cp:coreProperties>
</file>